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775-3533-45F4-BCCD-10BEC096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F2C-F1C9-4CC0-AE93-9EDDBC73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D27-3F1D-45E4-98C2-B54E421A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9CA-E10E-489D-B03A-FCC6C637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2F3C-F183-4482-9724-4DD22121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0107-2A3B-4A64-9CEE-3B599E54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A231-8EAA-4E4A-BF4F-1ECDF96B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39E9-0A4E-4B6C-BD8B-890E7CA6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7FD4-28CA-4506-9340-F0C03BF9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24C9-55EF-4347-9FBB-BB1D961D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160F-C779-45A0-9F5C-A27B209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5A8-D926-412C-AA42-37A1F06F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08B1-D05C-4868-8629-32EC11B4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FB9-047C-41E0-8D1E-031BFAC1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5179-162E-4E07-ABE1-A4741C02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6C88-223D-41F1-934C-212E0A26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D55D-3869-40BB-9FF8-26204B83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BB0-86B3-4BF9-A16D-F7E53375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4C8-2DFB-4810-9998-0F3458D5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CEC-688A-40EB-A78E-C8C77DF6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B27-007C-4EFE-B942-4E0A7DC3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8FA-07C6-4925-B867-900FC525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932-5D4F-4D0A-BE01-BEA7F960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D8A-21DA-4612-BAEC-404A9F91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6922-D84C-4E82-BC4A-333091C0E00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4D41-0B72-49BF-8691-EE7F7FAA66F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242200" cy="215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тегория состояния как часть реч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286080" y="4929120"/>
            <a:ext cx="56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и ученики 7 класса школы №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Егор Земцов, Олег Игнатов, Даша Пе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000240" y="635796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ктывкар: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217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14280" y="1785960"/>
            <a:ext cx="5884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 можно передать словами, эмоц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 может передать внешний вид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 природы можно тоже передать сло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  окружающей среды  можно описать словес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281160" y="19512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85840" y="1643040"/>
            <a:ext cx="885816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остоятельная часть речи, которая имеет общее грамматическое значение состояния живых существ, природы, окружающей среды или оценки состояния . Категория состояния отвечает на вопросы: как? каков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оянных морфологических признаков у категории состояния 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остоянным морфологическим признаком категории состояния является вре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рмы времени образуются с помощью глаголов быть, становиться, дела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остоянным морфологическим признаком категории состояния являются также формы срав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редложении является сказуем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матические группы слов категории состоя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ушевное состояние человека- грустно, весело, жаль, странно и др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зическое состояние человека и животных- больно, голодно, дурно и др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ценку состояния человека- надо, нужно, можно, лень, необходимо и др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ояние природы и окружающей среды- сухо, светло, пасмурно, уютно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25080" cy="1446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42960" y="1428840"/>
            <a:ext cx="8358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нятие категории состояния в современном русском язык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Первым, кто выделил Категорию состояния в особую часть речи, был Л. В. Щерба. В работе «О частях речи в русском языке» ( 1928) он впервые употребил этот термин ,Категория состоя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его мнению, эта часть речи образована , во-первых, неизменяемыми словами с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ением состояния( нельзя, можно), которые являются сказуемыми в безличном предложении, во-вторых,  выступающие в роли сказуемого  в двусоставном предлож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ткие прилагательные и предложно- падежные формы со значением 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 готов, гораз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В. Виноградов включал в категорию состояния: краткие прилагательные, утратившие свои полные формы (рад); краткие страдательные причастия( угнетен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лично -предикативные слова на –о- ( грустно, радостно); бывшие существительные ( лен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291960" y="96840"/>
            <a:ext cx="8650440" cy="1446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071720" y="164304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Порядок морфологического разбора категории состоя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071720" y="3000240"/>
            <a:ext cx="7358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е грамматическое значение- состояние или оценка состояния. Вопрос. Часть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фологические призна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остоянные: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Непостоянные: время, форма срав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нтаксическая ро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53880" y="96840"/>
            <a:ext cx="8528040" cy="1446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214200" y="2000160"/>
            <a:ext cx="8929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Прощание было тягостно и печально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ягостно и печально- краткие качествен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ые  прилагательные изменяются по числам и родам, не склоняются по падеж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едложении являются сказуемыми.. Можно изменить: Прощание было  тягос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353436"/>
                </a:solidFill>
                <a:latin typeface="Times New Roman"/>
              </a:rPr>
              <a:t>Ы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печальн</a:t>
            </a:r>
            <a:r>
              <a:rPr b="0" lang="ru-RU" sz="1800" spc="-1" strike="noStrike">
                <a:solidFill>
                  <a:srgbClr val="353436"/>
                </a:solidFill>
                <a:latin typeface="Times New Roman"/>
              </a:rPr>
              <a:t>Ы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. Изменили тягостно и печально в полную форму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Мелодия звучала тягостно и печаль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( Тягостно и печально- наречие образа дейс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я, обозначают признак действия : звучала(как?) тягостно и печально..В дан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учае нет постоянных признаков, есть степень сравнения. Изменим: Мелодия зв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ла  тягостн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Е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ечальн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Е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Функция обстоятельства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На душе было тягостно и печаль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( На душе ( каково?) тягостно и печально. Бы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ягостно и печально( где?) на душе.( обстоятельство мес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данном предложении не может быть подлежащего, т.к. категория состояни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ложении существует сама по себе, не зависит от других слов в предложении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вляется сказуемым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46:38Z</dcterms:created>
  <dc:creator>Евгения</dc:creator>
  <dc:description/>
  <dc:language>en-US</dc:language>
  <cp:lastModifiedBy>Евгения</cp:lastModifiedBy>
  <dcterms:modified xsi:type="dcterms:W3CDTF">2010-04-20T19:50:12Z</dcterms:modified>
  <cp:revision>33</cp:revision>
  <dc:subject/>
  <dc:title>Творческая презентация. </dc:title>
</cp:coreProperties>
</file>